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F4963-F001-414F-B2CA-2EE670738A55}"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8B6CB-3E5F-4DE5-810C-765CBDE8A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ie/Muskegon</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1A559-9B63-473A-888D-2D0BCA2AA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12F05-ABCE-4684-8F84-759DB85C3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A28A1-5752-40CE-BBF0-79CC180FE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7D043-77E8-477E-9593-C2B1B5ACD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7290F-F795-438A-97CB-96CD473E2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86A5E-CD76-4DEF-87A7-D06A5FC96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dison/MKE</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2537E-6737-424F-AC91-33D47FB5B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roit/Thunder Bay</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1B9C1-89E4-485F-A135-61303891F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veland/Ashland</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CC4C7-F2E0-4723-9280-965F66991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367F8-E343-4DBF-98E7-E36692ECC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3BB4-90EB-4671-B782-4CD67D280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9551C-B956-42FF-8490-1BE82826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0ADC9-CB20-40F0-9D0E-9073323A1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F2E8-4FFC-4407-98E4-55A542D2D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70A9D-8979-4E2F-8C79-D89C47F3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8463-6063-4DEE-A71B-AF47DE97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7B08-2A26-4F44-A61C-FC1846432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E69D-C531-4A89-9CB8-1F955B344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A84B-2796-4EDB-B53F-FC4A0001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B1E3-1995-4913-93B9-9BF32CD7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D14C-AAE9-4E9D-A350-3F1A4F569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A1ED8-246D-41ED-8132-1ABDBF27D13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0F301-D73F-4F6C-A17A-D46F1B5FD5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6440" y="1044720"/>
            <a:ext cx="8826480" cy="1457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From “Can We Go Outside Today?” to “Can we Learn Outside Toda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0" y="3004920"/>
            <a:ext cx="9144000" cy="366228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ssessing Student Learning from Schoolyard-based Teaching</a:t>
            </a:r>
            <a:endParaRPr b="0" lang="en-US" sz="2400" spc="-1" strike="noStrike">
              <a:solidFill>
                <a:srgbClr val="000000"/>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Stephen Laubach</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Curriculum &amp; Instruction Department and </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Nelson Institute for Environmental Studie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University of Wisconsin-Madison</a:t>
            </a:r>
            <a:endParaRPr b="0" lang="en-US" sz="1600" spc="-1" strike="noStrike">
              <a:solidFill>
                <a:srgbClr val="000000"/>
              </a:solidFill>
              <a:latin typeface="Calibri"/>
            </a:endParaRPr>
          </a:p>
        </p:txBody>
      </p:sp>
      <p:pic>
        <p:nvPicPr>
          <p:cNvPr id="50" name="Picture 4" descr="UW_huge_logo"/>
          <p:cNvPicPr/>
          <p:nvPr/>
        </p:nvPicPr>
        <p:blipFill>
          <a:blip r:embed="rId1"/>
          <a:stretch/>
        </p:blipFill>
        <p:spPr>
          <a:xfrm>
            <a:off x="6831000" y="5054760"/>
            <a:ext cx="1611360" cy="1612800"/>
          </a:xfrm>
          <a:prstGeom prst="rect">
            <a:avLst/>
          </a:prstGeom>
          <a:ln w="0">
            <a:noFill/>
          </a:ln>
        </p:spPr>
      </p:pic>
      <p:pic>
        <p:nvPicPr>
          <p:cNvPr id="51" name="Picture 0" descr="EPS logo color good for WORD.png"/>
          <p:cNvPicPr/>
          <p:nvPr/>
        </p:nvPicPr>
        <p:blipFill>
          <a:blip r:embed="rId2"/>
          <a:stretch/>
        </p:blipFill>
        <p:spPr>
          <a:xfrm>
            <a:off x="411120" y="5316480"/>
            <a:ext cx="2473200" cy="108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measure growth in conceptual understanding from a school garden project?</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etest and post test students on their understanding</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 k-w-l char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students do some kind of presentation you can assess what they have learned (e.g., with a rubric)</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ake before and after pictures and ask students to explain it. With older kids could also use journals with photos.</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ake photos of student work, ask them to write about the projec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re students asking questions that teachers usually ask?</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 have given a pre-survey before we started working outside. The survey was about their views about plants and such. Then after beginning working outside I had them go over the survey again to see if their opinions have changed. </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students do some kind of presentation to teach others about it, you can see what they have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e could take pictures of before the project and after the project and have the students explain or write about how we got from the beginning to the en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sing multiple modalities, giving the kids the opportunity to share what they have learned i.e. in a video message, walk in the woods, garden lesson to someone else, poster or interpretative  signage, letter of thanks to donors...making the learning real.</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take what they have learned from the project, make an instructional guide and then maybe go to another local school to teach them what they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make a portfolio containing assignments pertaining to project.</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 would have them write in their notebooks to answer questions such as what they feel they learned from the experience, but then be more specific such as, Why are native plants important in a rain garden?</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For my K4 students, I would have them draw pictures to sequence the steps we took to grow plants.  They could then dictate what to write and we could invite parents in to have a presentation.</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a story of your garden for a younger audience that includes the content that is expected to be learned</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take a pre-survey before you start the project, then take another survey during the project and again at the end of the year</a:t>
            </a:r>
            <a:endParaRPr b="0" lang="en-US" sz="1200" spc="-1" strike="noStrike">
              <a:solidFill>
                <a:srgbClr val="000000"/>
              </a:solidFill>
              <a:latin typeface="Calibri"/>
            </a:endParaRPr>
          </a:p>
          <a:p>
            <a:pPr marL="318960" indent="-31896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8960" indent="-31896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a5eb"/>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There is Funding for Outdoor Learning – but you have to know where to look</a:t>
            </a:r>
            <a:endParaRPr b="0" lang="en-US" sz="3600" spc="-1" strike="noStrike">
              <a:solidFill>
                <a:srgbClr val="000000"/>
              </a:solidFill>
              <a:latin typeface="Calibri"/>
            </a:endParaRPr>
          </a:p>
        </p:txBody>
      </p:sp>
      <p:sp>
        <p:nvSpPr>
          <p:cNvPr id="72" name=""/>
          <p:cNvSpPr txBox="1"/>
          <p:nvPr/>
        </p:nvSpPr>
        <p:spPr>
          <a:xfrm>
            <a:off x="250920" y="1711440"/>
            <a:ext cx="87120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xamples of Funding for Outdoor Learning: </a:t>
            </a:r>
            <a:endParaRPr b="0" lang="en-US" sz="24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dison/Greater Wisconsin: </a:t>
            </a:r>
            <a:endParaRPr b="0" lang="en-US" sz="2400" spc="-1" strike="noStrike">
              <a:solidFill>
                <a:srgbClr val="000000"/>
              </a:solidFill>
              <a:latin typeface="Calibri"/>
            </a:endParaRPr>
          </a:p>
          <a:p>
            <a:pPr lvl="1" marL="1084320" indent="-285840">
              <a:spcBef>
                <a:spcPts val="40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School vegetable garden project </a:t>
            </a:r>
            <a:r>
              <a:rPr b="0" lang="en-US" sz="1600" spc="-1" strike="noStrike">
                <a:solidFill>
                  <a:srgbClr val="ffffff"/>
                </a:solidFill>
                <a:latin typeface="Calibri"/>
              </a:rPr>
              <a:t>funded by the Madison Community Foundation </a:t>
            </a:r>
            <a:endParaRPr b="0" lang="en-US" sz="16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isconsin Environmental Education Board</a:t>
            </a:r>
            <a:endParaRPr b="0" lang="en-US" sz="20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uskegon:</a:t>
            </a:r>
            <a:endParaRPr b="0" lang="en-US" sz="24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est Great Lakes Stewardship Initiative</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Community Foundation for Muskegon County</a:t>
            </a:r>
            <a:endParaRPr b="0" lang="en-US" sz="2000" spc="-1" strike="noStrike">
              <a:solidFill>
                <a:srgbClr val="000000"/>
              </a:solidFill>
              <a:latin typeface="Calibri"/>
            </a:endParaRPr>
          </a:p>
          <a:p>
            <a:pPr>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roit/Greater Michigan</a:t>
            </a:r>
            <a:endParaRPr b="0" lang="en-US" sz="24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Cranbrook Institute of Science (list of funding sources)</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alibri"/>
              </a:rPr>
              <a:t>Wildflower Association of Michigan</a:t>
            </a:r>
            <a:endParaRPr b="0" lang="en-US" sz="2000" spc="-1" strike="noStrike">
              <a:solidFill>
                <a:srgbClr val="000000"/>
              </a:solidFill>
              <a:latin typeface="Calibri"/>
            </a:endParaRPr>
          </a:p>
          <a:p>
            <a:pPr lvl="1" marL="1084320" indent="-285840">
              <a:spcBef>
                <a:spcPts val="499"/>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36680" y="365040"/>
            <a:ext cx="8229600" cy="750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Learning?</a:t>
            </a:r>
            <a:endParaRPr b="0" lang="en-US" sz="4400" spc="-1" strike="noStrike">
              <a:solidFill>
                <a:srgbClr val="000000"/>
              </a:solidFill>
              <a:latin typeface="Calibri"/>
            </a:endParaRPr>
          </a:p>
        </p:txBody>
      </p:sp>
      <p:sp>
        <p:nvSpPr>
          <p:cNvPr id="53" name=""/>
          <p:cNvSpPr txBox="1"/>
          <p:nvPr/>
        </p:nvSpPr>
        <p:spPr>
          <a:xfrm>
            <a:off x="457200" y="1600200"/>
            <a:ext cx="8229600" cy="48211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raditionally thought of as the acquisition of content area knowledge in the disciplines (Language Arts, Math, Science, Social Studies, History, etc.)</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Often assessed through pencil-and-paper tests that focus on “what” questions (facts) over “how” and “why” questions (process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ramed this way, it can be hard to justify taking students outside for learning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035"/>
          <p:cNvSpPr/>
          <p:nvPr/>
        </p:nvSpPr>
        <p:spPr>
          <a:xfrm>
            <a:off x="274680" y="1955880"/>
            <a:ext cx="1025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99720" y="536040"/>
            <a:ext cx="8932680" cy="1143000"/>
          </a:xfrm>
          <a:prstGeom prst="rect">
            <a:avLst/>
          </a:prstGeom>
          <a:noFill/>
          <a:ln w="0">
            <a:noFill/>
          </a:ln>
        </p:spPr>
        <p:txBody>
          <a:bodyPr anchor="ctr">
            <a:no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What about Other Aspects of </a:t>
            </a:r>
            <a:br>
              <a:rPr sz="4000"/>
            </a:br>
            <a:r>
              <a:rPr b="0" lang="en-US" sz="4000" spc="-1" strike="noStrike">
                <a:solidFill>
                  <a:srgbClr val="ffffff"/>
                </a:solidFill>
                <a:latin typeface="Calibri"/>
              </a:rPr>
              <a:t>Learning, though?</a:t>
            </a:r>
            <a:endParaRPr b="0" lang="en-US" sz="4000" spc="-1" strike="noStrike">
              <a:solidFill>
                <a:srgbClr val="000000"/>
              </a:solidFill>
              <a:latin typeface="Calibri"/>
            </a:endParaRPr>
          </a:p>
        </p:txBody>
      </p:sp>
      <p:sp>
        <p:nvSpPr>
          <p:cNvPr id="56" name=""/>
          <p:cNvSpPr txBox="1"/>
          <p:nvPr/>
        </p:nvSpPr>
        <p:spPr>
          <a:xfrm>
            <a:off x="457200" y="2322360"/>
            <a:ext cx="8229600" cy="284184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tudent Engagement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eveloping relationships with peers and adults at schoo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necting with the local community as responsible citiz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6560" y="806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Defined in this way, learning happens at different scales</a:t>
            </a:r>
            <a:endParaRPr b="0" lang="en-US" sz="3600" spc="-1" strike="noStrike">
              <a:solidFill>
                <a:srgbClr val="000000"/>
              </a:solidFill>
              <a:latin typeface="Calibri"/>
            </a:endParaRPr>
          </a:p>
        </p:txBody>
      </p:sp>
      <p:sp>
        <p:nvSpPr>
          <p:cNvPr id="58" name=""/>
          <p:cNvSpPr txBox="1"/>
          <p:nvPr/>
        </p:nvSpPr>
        <p:spPr>
          <a:xfrm>
            <a:off x="241200" y="2604960"/>
            <a:ext cx="8631360" cy="261000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dividual level </a:t>
            </a:r>
            <a:r>
              <a:rPr b="0" lang="en-US" sz="1800" spc="-1" strike="noStrike">
                <a:solidFill>
                  <a:srgbClr val="ffffff"/>
                </a:solidFill>
                <a:latin typeface="Calibri"/>
              </a:rPr>
              <a:t>(knowledge, motivation, and engagement)</a:t>
            </a:r>
            <a:endParaRPr b="0" lang="en-US" sz="1800" spc="-1" strike="noStrike">
              <a:solidFill>
                <a:srgbClr val="000000"/>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chool community level </a:t>
            </a:r>
            <a:r>
              <a:rPr b="0" lang="en-US" sz="1800" spc="-1" strike="noStrike">
                <a:solidFill>
                  <a:srgbClr val="ffffff"/>
                </a:solidFill>
                <a:latin typeface="Calibri"/>
              </a:rPr>
              <a:t>(developing relationships with peers and adults)</a:t>
            </a:r>
            <a:endParaRPr b="0" lang="en-US" sz="1800" spc="-1" strike="noStrike">
              <a:solidFill>
                <a:srgbClr val="000000"/>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urrounding community level </a:t>
            </a:r>
            <a:r>
              <a:rPr b="0" lang="en-US" sz="1800" spc="-1" strike="noStrike">
                <a:solidFill>
                  <a:srgbClr val="ffffff"/>
                </a:solidFill>
                <a:latin typeface="Calibri"/>
              </a:rPr>
              <a:t>(citizenshi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0840" y="415440"/>
            <a:ext cx="8802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But…principals, colleagues, and funding sources want evidence of learning to justify “taking the kids outside”</a:t>
            </a:r>
            <a:endParaRPr b="0" lang="en-US" sz="2800" spc="-1" strike="noStrike">
              <a:solidFill>
                <a:srgbClr val="000000"/>
              </a:solidFill>
              <a:latin typeface="Calibri"/>
            </a:endParaRPr>
          </a:p>
        </p:txBody>
      </p:sp>
      <p:sp>
        <p:nvSpPr>
          <p:cNvPr id="60" name=""/>
          <p:cNvSpPr txBox="1"/>
          <p:nvPr/>
        </p:nvSpPr>
        <p:spPr>
          <a:xfrm>
            <a:off x="159840" y="2162160"/>
            <a:ext cx="8772840" cy="4138560"/>
          </a:xfrm>
          <a:prstGeom prst="rect">
            <a:avLst/>
          </a:prstGeom>
          <a:noFill/>
          <a:ln w="0">
            <a:noFill/>
          </a:ln>
        </p:spPr>
        <p:txBody>
          <a:bodyPr anchor="t">
            <a:normAutofit/>
          </a:bodyPr>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day’s webinar will involve an interactive brainstorm session to answer the following question: </a:t>
            </a:r>
            <a:r>
              <a:rPr b="0" i="1" lang="en-US" sz="2000" spc="-1" strike="noStrike">
                <a:solidFill>
                  <a:srgbClr val="ffffff"/>
                </a:solidFill>
                <a:latin typeface="Calibri"/>
              </a:rPr>
              <a:t>How can we assess student learning from  outdoor learning experiences?</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or the Earth Partnership curriculum, outdoor learning happens through extended units on ecological restoration with native plants (rain gardens, butterfly gardens, prairie plantings, etc.). These units focus on cross-disciplinary learning, not just the mechanics of planting a garden.</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Review - four main areas to brainstorm</a:t>
            </a:r>
            <a:endParaRPr b="0" lang="en-US" sz="3600" spc="-1" strike="noStrike">
              <a:solidFill>
                <a:srgbClr val="000000"/>
              </a:solidFill>
              <a:latin typeface="Calibri"/>
            </a:endParaRPr>
          </a:p>
        </p:txBody>
      </p:sp>
      <p:sp>
        <p:nvSpPr>
          <p:cNvPr id="62" name=""/>
          <p:cNvSpPr txBox="1"/>
          <p:nvPr/>
        </p:nvSpPr>
        <p:spPr>
          <a:xfrm>
            <a:off x="457200" y="1868040"/>
            <a:ext cx="8229600" cy="4257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an We Assess:</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tudent motivation and engagement</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Growth in relationships with peers and adults at school </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nection with local community </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ontent area knowledge</a:t>
            </a:r>
            <a:endParaRPr b="0" lang="en-US" sz="2800" spc="-1" strike="noStrike">
              <a:solidFill>
                <a:srgbClr val="000000"/>
              </a:solidFill>
              <a:latin typeface="Calibri"/>
            </a:endParaRPr>
          </a:p>
          <a:p>
            <a:pPr>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student motivation and engagement from a garden project? </a:t>
            </a:r>
            <a:br>
              <a:rPr sz="2800"/>
            </a:br>
            <a:endParaRPr b="0" lang="en-US" sz="2800" spc="-1" strike="noStrike">
              <a:solidFill>
                <a:srgbClr val="000000"/>
              </a:solidFill>
              <a:latin typeface="Calibri"/>
            </a:endParaRPr>
          </a:p>
        </p:txBody>
      </p:sp>
      <p:sp>
        <p:nvSpPr>
          <p:cNvPr id="64" name=""/>
          <p:cNvSpPr txBox="1"/>
          <p:nvPr/>
        </p:nvSpPr>
        <p:spPr>
          <a:xfrm>
            <a:off x="457200" y="1366920"/>
            <a:ext cx="8229600" cy="4759200"/>
          </a:xfrm>
          <a:prstGeom prst="rect">
            <a:avLst/>
          </a:prstGeom>
          <a:noFill/>
          <a:ln w="0">
            <a:noFill/>
          </a:ln>
        </p:spPr>
        <p:txBody>
          <a:bodyPr anchor="t">
            <a:normAutofit/>
          </a:bodyPr>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eeping a journal, writing letters, tracking a projec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ideotaping what the kids are doing; share with each other</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utting it back on kids; giving them ownership; what would they like to learn. Go to Baldwin Wallace University to learn about sustainability</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re students staying on track as they study planting seeds, studying ants. Follow what they are interested in (for 4 year ol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ave students display their garden project to peers, teachers, community member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udent involvement; those who decide to show up at event; how many questions they ask</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could collect data on discipline before, during and after</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Have a sign in sheet and keep data as to how involvement increases over time.</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would question the students on what they would want to do, how they would like to learn about outdoor projects.  Have them make it their own and come up with a pla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have four year old students, but I would assess by noting whether they question what we are doing, what is happening and want to keep checking on project or write in their daily books about it</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say the student produces a project description of the work in a portfolio style with an evaluation matrix which allows the teacher to articulate valu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 think that one can measure on task behavior as the most basic measure of engagemen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oice and choice are fundamental aspects of Project Based Learning. This is very compatible with this kind of learni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growth in relationships with peers and adults at school from a garden project?</a:t>
            </a:r>
            <a:endParaRPr b="0" lang="en-US" sz="2800" spc="-1" strike="noStrike">
              <a:solidFill>
                <a:srgbClr val="000000"/>
              </a:solidFill>
              <a:latin typeface="Calibri"/>
            </a:endParaRPr>
          </a:p>
        </p:txBody>
      </p:sp>
      <p:sp>
        <p:nvSpPr>
          <p:cNvPr id="66" name=""/>
          <p:cNvSpPr txBox="1"/>
          <p:nvPr/>
        </p:nvSpPr>
        <p:spPr>
          <a:xfrm>
            <a:off x="457200" y="1506600"/>
            <a:ext cx="8229600" cy="4619520"/>
          </a:xfrm>
          <a:prstGeom prst="rect">
            <a:avLst/>
          </a:prstGeom>
          <a:noFill/>
          <a:ln w="0">
            <a:noFill/>
          </a:ln>
        </p:spPr>
        <p:txBody>
          <a:bodyPr anchor="t">
            <a:normAutofit/>
          </a:bodyPr>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ring in volunteers and using a rubric observe student interaction with peers and adult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 if students are making new friendships; are they growing with their relationships; do they cooperate and compromise with their ideas (more small group work facilitates thi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Journals that students write to parents (work on adjectiv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haring projects with adults; teachers; students in other grades (cross-age communication)</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video tape the interaction of adults with the volunteers and peer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re there positive interactions amongst students, are they working as team, taking turns to help each other learn, also are they interacting with adults, in positive response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lf-assessment:  I use a quick self-check for labs already.  It asks if all participated, if all ideas were considered, if they stayed on task, if the activity helped them understand more.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 use science journals a lot.  A prompt might be to have students write about how they could share what they are experiencing in the garden to a friend or teacher or parent. </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look for kids who are helping each other and using positive, encouraging words</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 use science notebooks and one of my goals with them is to get them to write more in science.  For a project like this, I would have them write in their journal about what they thought were any positive interactions with peers that they had when working on the garden.  I would also have them add what didn't work when working together, and why they thought it didn't work.</a:t>
            </a: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oday I was able to watch our 4/5th graders walk their 1st grade buddies through the woods and listen to them explain what they see and ask them what they s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How could we assess connecting with the local community from a school garden project?</a:t>
            </a:r>
            <a:endParaRPr b="0" lang="en-US" sz="2800" spc="-1" strike="noStrike">
              <a:solidFill>
                <a:srgbClr val="000000"/>
              </a:solidFill>
              <a:latin typeface="Calibri"/>
            </a:endParaRPr>
          </a:p>
        </p:txBody>
      </p:sp>
      <p:sp>
        <p:nvSpPr>
          <p:cNvPr id="68" name=""/>
          <p:cNvSpPr txBox="1"/>
          <p:nvPr/>
        </p:nvSpPr>
        <p:spPr>
          <a:xfrm>
            <a:off x="457200" y="1599840"/>
            <a:ext cx="8229600" cy="5086440"/>
          </a:xfrm>
          <a:prstGeom prst="rect">
            <a:avLst/>
          </a:prstGeom>
          <a:noFill/>
          <a:ln w="0">
            <a:noFill/>
          </a:ln>
        </p:spPr>
        <p:txBody>
          <a:bodyPr anchor="t">
            <a:normAutofit/>
          </a:bodyPr>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posters and invite the public; parents, local government, garden businesses, park staff</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llect data on discipline before, during and after</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you had a good year/good harvest you could donate to local food kitch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You could track the number of new volunteers to the school that the project attracts.</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thank you letters to adults are a great way to see what kids have learned- and the volunteers love them and you teach kids a great life skill</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reate posters and invite the public:  parents, local government, garden businesses, park staff.</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f you had a good year good harvest you could donate to local food kitch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dd to that invitation to the public:  have the students at their posters and explain, just like science fair.</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nd out a newsletter or put a summary on the school webpage about the project and update progress.</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e could have a sign up for summer volunteers to tend the garden since teachers probably aren't available  all summer. </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Our farm hand students have created blogs, web sites for local farmers in the area.</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have students produce and execute public presentations on the benefits of garden projects? </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l summer this could be a quick assessment of community investment in the project.</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Meet and greet with local community leaders, invite the local newspaper to come to the school and cover the event.</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Our project started from a suggestion from a community member, then grew to include the local college, and the school district, the local garden club, North East in Bloom, cub scouts...It has become an ongoing project which will continue this spring. We have a hundred yard long pollinator garden.</a:t>
            </a:r>
            <a:endParaRPr b="0" lang="en-US" sz="1200" spc="-1" strike="noStrike">
              <a:solidFill>
                <a:srgbClr val="000000"/>
              </a:solidFill>
              <a:latin typeface="Calibri"/>
            </a:endParaRPr>
          </a:p>
          <a:p>
            <a:pPr marL="343080" indent="-34308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Keep track of food products grown and donated to a food bank.  This is something one of my Girl Scouts did for her Gold Award.  She has moved on, but her high school is sustaining the projec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5:38:05Z</dcterms:created>
  <dc:creator>Steve  Laubach</dc:creator>
  <dc:description/>
  <dc:language>en-US</dc:language>
  <cp:lastModifiedBy>Steve Laubach</cp:lastModifiedBy>
  <cp:lastPrinted>2011-01-28T22:26:48Z</cp:lastPrinted>
  <dcterms:modified xsi:type="dcterms:W3CDTF">2013-04-04T21:28:07Z</dcterms:modified>
  <cp:revision>89</cp:revision>
  <dc:subject/>
  <dc:title>From Civic Science to the Age of Ecology </dc:title>
</cp:coreProperties>
</file>